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A4E0-E36F-4774-9453-4646160FB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088C-2C3D-436D-B56B-A3B93DAF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1C31-E54D-4B6C-A386-AC91FA629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4764-1D3B-4619-A378-88A6CE2E8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CD07-0DCE-435F-B0CA-5FB3F3E6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B0C4-5B0A-449F-9EE6-A6E417D29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7F17-2883-4967-9CB3-B48485B6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9551-DD25-44C3-9401-AA072AA3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390D-CA1E-486C-9087-D34527E56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0983-197C-4FB6-8B4E-20CC5E9F2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0627-E6DE-40B4-B444-21CD064D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D6E5-25EF-4791-880A-C1B8CDAC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C9F8-A621-464F-B99F-8EF1E343D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naging Peace and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plomacy and Deter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lict over scarce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es only restored in June 1976 after an agreement was sig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ain could only catch a fixed am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eland’s patrols could stop boats to check th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lict over ideological dif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 values and beliefs among countries can cause confli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ries can come into conflict if they feel that their ideologies are being threat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lict over ideological dif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 Korea and South Korea fought a war because N. Korea believed in communism and South Korea believed in Democr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rea was divided at the 3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rallel after WW 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orthern part was temporarily occupied by the USSR while the South was occupied by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lict over ideological dif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N called for an election in 1947 to establish a government to unite Ko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SSR refused and installed a communist regime in the Nor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rth Korea invaded the South in 1950 to unite Korea under commun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USA, its allies and the UN defended South Kor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lict over ideological dif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forces forced the North Koreans bac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ug 1953, an agreement to stop fighting was signed by all parties and a demilitarised zone between North and South was crea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2 Why is Deterrence necess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ng militarily self-relian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apore experienced the Japanese occupation and Indonesian Confro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 strong military force, people do not feel secure and foreign companies are not willing to inv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apore government realised this when the British pulled out in 196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3 How is Deterrence practis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itizen armed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Generation Singapore Armed Fo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apore’s Defence Indust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Def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-Agency coordination on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itary co-operation with other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Citizen Armed Fo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apore could not afford a large professional arm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decided to build a citizen armed force through enlis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67, National Service was int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aporeans learn to defend the nation in their time in 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aporeans also bond through their experiences in 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Citizen Armed Fo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on completion of NS, these men would continue to serve as operationally-ready NS men for 10 yea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eir training, they would undergo refresher courses and maintain their compe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Generation Singapore Armed For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fare has become more comp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fore, SAF consistently enhances its capabilities in warfare through R&amp;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 started a project with research institutes and local unis to create the 3G S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G SAF works towards maximising defensive capabilities through modern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1 Why do Conflicts occur among countri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countries protect their national inter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licts occur when countries disagree on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greements arise over the follow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eting Terr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lict over scarce natural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lict over ideological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apore’s Defence Indu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 needs the latest technology to build an effective fighting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apore does this by building its own defence industry, making SAF self-reli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efence industry started in 1967 with the establishment of Chartered Industries of Singapore (CI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S has now developed into a successful defence compa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apore’s Defence Indu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ence Science and Technology Agency (DSTA) formed in 2000 to provide cost-effective and modern technology to the SA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cuses on buying and upgrading weapons, as well as developing new weap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s research with other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tal Def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vil Def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c Def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cial Def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sychological Def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litary Def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tal Defence: Civil Def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 to know what to do in a civil emer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Hotel New World Dis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tal Defence: Economic Def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’s economy requires Singaporeans to adjust to changing dem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ant need to upgrade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apore Workforce Development Agency (WDA) formed in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DA works with other agencies to help workers upgrade their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tal Defence: Social Def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e strengthening of Social ties through various organisations (CDC and IRC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vities include visit to places of worship and inter-faith dialog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s ensure that unity will not be broken during testing sit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otal Defence: Psychological  Defen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ing pride and loyalty and wanting to stand up and defend Singap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ing will and mental strength to overcome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 SA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-Agency coordin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Security Coordination Secretariat (NSCS) set up to coordinate various government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 networking strengthens Singapore’s national secu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SCS meets regularly to plan national security policies and strate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works with commercial and private parties to combat thre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litary Co-operation with other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apore actively fosters friendly ties with armed forces of other countries throu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ateral military agreements and exerc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ments with France, Australia, In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rcises with Malaysia and Indone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lateral military agreements and exerc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ve Power Defence Arrang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rcises conducted every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bers consult one another on deter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1 Why is Diplomacy necessar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ries are connected to one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ries use diplomacy to pursue mutual inter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ables countries to cooperate and solve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lve conflicts peacefu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countries to help one an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eting Terri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over land can mean a lot to a country esp. 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nd is important to their def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and represents national pr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imes countries try to control land that isn’t thei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territory is claimed by two countries, it can result in confli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2 How is Diplomacy practise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lateral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gional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national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lateral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untry-to-Country relation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apore has been actively involved in expanding bilateral rel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de – Japan, Germany, U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acqui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lateral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rther promote political, economic and cultural 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ay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apore able to speed up economic and social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lateral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apore willing to help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etn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eh (Tsunami Relie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apore gains world recognition and resp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al Re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sociation of countries in a reg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ing strengths of member countries, the association becomes stron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 in a better position when dealing with ot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ropean Union (U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th Asian Association for Regional Cooperation (SAAR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of Southeast Asian Nations (ASE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al Relations (ASE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7, five countries formed AS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lay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hilipp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ap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ai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EAN Declaration signed in Bangkok 8 Aug 196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al Relations (ASE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60s, SE Asia was going through various 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Asian leaders saw the need for a regional organis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st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tr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EAN is a venue for resolving disputes among member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EAN Is a united and collective voice to strengthen bargaining power with other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al Relations (ASE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EAN Initi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EAN Free Trade Area (AF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Asia is attractive to inves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intense competition from India &amp;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Integration is necess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EAN launched AFTA in 199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ms to remove import tax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 term plan: integrate Asian economies into a single production base. Remove import taxes by 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al Relations (ASE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EAN Initi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EAN Regional Forum (AR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in 19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volves countries in Asia-Pacific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tain peace by promoting political and security dia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nue for peaceful discussion and security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nts include China, Japan, North Korea, India, New Zealand, Australia, USA and Ca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al Relations (ASE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EAN Initi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ion and Professional E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of Singapore’s contribution to ASEAN is technical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technical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apore offers scholarships under Singapore Cooperation Programme (SC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bond involved and allows students from any ASEAN country to study in Singapore univers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lict over B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47, India inherited a border drawn by the Brit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a disagreed with the b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in having a clear border because most of the frontier is inacce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border regions became areas of confli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sai Chin Plateau (W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th Eastern Frontier Agency (Ea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al Relations (ASE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EAN Initi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c cooperation and assi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narrow economic gap between member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tive for ASEAN Integration (IA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ve-year aid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$80 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ed member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onal Relations (ASE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EAN Initia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vironmental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onesian Forest Fires in 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serious haze problem in the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apore offered assistance in the monitoring of fires through satellite im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tional Relations (U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26 June 19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bership of 192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ngapore and the 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1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mber on 21 September 19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ve Singapore recognition as a sovereign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 helped Singapore by sending experts in economic and social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Albert Winsem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Law of the Sea Con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es how countries can draw territorial sea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es rights of landlocked states to access the s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guidelines to safeguard the marine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ects freedom of scientific re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Tommy Koh was President of the Third UN Conference of the Law of the S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Security Counc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 permanent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ed States, United Kingdom, France, China and Rus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rotating me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apore was a rotating member 2001-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apore served as President of the Counc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owed confidence member states have in Singap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 Peacekeeping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 countries torn by confli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cekeeping operations are auhorised by UN Security Counc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acekeepers are soldiers, military officers, police officers and civilian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apore has been involved since 198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5 – S’pore involved in 13 operations in 11 different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lict over B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e 1950s, China was unwilling to negotiate seriously with India and commit to a fixed b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58, China built a road on the Aksai Chin Plateau and India protested that China had violated India’s territorial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na disagreed saying that the border was not fix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lict over Bor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59, tension worsened when fighting broke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 mid-1961, China occupied more territories of India it regarded as its 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a demanded the return of the terri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62, war broke 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a and China signed an agreement in 2005 to address the issue but it has not been res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lict over scarce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ural resources are unequally distributed around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untries have more, some have 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with less might use force to gain more, especially when these resources are necessary for surviv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lict over scarce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e 1970s, Iceland and Britain were in conflict over fishing grou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eland depended on fishing for survival and felt threatened when fishermen from other European countries overfished around Ic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 stocks decreased around Ice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lict over scarce 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1975, Iceland extended its zone of control over fishing from 50 nautical miles to 200 nautical m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countries could fish within that boundary without Iceland’s per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tain refused to acknowledge the bound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eland cut diplomatic ties with Britain in Feb 19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8T07:16:55Z</dcterms:created>
  <dc:creator>moe</dc:creator>
  <dc:description/>
  <dc:language>en-US</dc:language>
  <cp:lastModifiedBy>moe</cp:lastModifiedBy>
  <dcterms:modified xsi:type="dcterms:W3CDTF">2010-02-07T13:58:00Z</dcterms:modified>
  <cp:revision>7</cp:revision>
  <dc:subject/>
  <dc:title>Managing Peace and Security</dc:title>
</cp:coreProperties>
</file>